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CEE-0127-4F79-ADFA-BCFCD292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70D-738B-443E-BD4B-44FBACF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7B-D1A2-41E4-8E9E-1B1768D8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60D-ECDF-4B63-B60A-7FC333BD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699-01D4-4E40-9BFD-F07BCCDF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9EB-8BFA-484A-B908-AE38D21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63E-EBF0-4828-9CF7-C3C4FEF0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DA8-7E2F-48A1-B511-995502B2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C9A-A0A7-439F-9D62-79F8A2D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D4B-7367-4E0C-BFBC-994E8BE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8CA-343B-414D-9506-6C16C20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95E-D880-4511-83B7-2830D1E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5AD2-9F56-41C2-B1CE-64F5A328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838080"/>
          <a:ext cx="8610480" cy="407700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i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i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ne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3" name="Line 60"/>
          <p:cNvSpPr/>
          <p:nvPr/>
        </p:nvSpPr>
        <p:spPr>
          <a:xfrm>
            <a:off x="22860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1, 4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5, 6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1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3, -5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2, 0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3, 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 Box 6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-9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7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838080"/>
          <a:ext cx="8610480" cy="4077000"/>
        </p:xfrm>
        <a:graphic>
          <a:graphicData uri="http://schemas.openxmlformats.org/drawingml/2006/table">
            <a:tbl>
              <a:tblPr/>
              <a:tblGrid>
                <a:gridCol w="1722600"/>
                <a:gridCol w="1720800"/>
                <a:gridCol w="1724040"/>
                <a:gridCol w="1720800"/>
                <a:gridCol w="1722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nth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t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ber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e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Ka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y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r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m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r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y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6" name="Line 47"/>
          <p:cNvSpPr/>
          <p:nvPr/>
        </p:nvSpPr>
        <p:spPr>
          <a:xfrm>
            <a:off x="22860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8, -2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2, 3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1467000" y="304920"/>
                <a:ext cx="458928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graph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4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12, -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143000" y="304920"/>
                <a:ext cx="52387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substitu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-3, -5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(2, 1)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988920" y="152280"/>
                <a:ext cx="69357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by linear combin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Text Box 5"/>
          <p:cNvSpPr/>
          <p:nvPr/>
        </p:nvSpPr>
        <p:spPr>
          <a:xfrm>
            <a:off x="78120" y="15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533520" y="2438280"/>
            <a:ext cx="8001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 winning team is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219320" y="15228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Ch.7 Mid-T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Review She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304920" y="388620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TEST OVER 7.1 - 7.3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Thursday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ransition spd="med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your GROUP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3480" y="838080"/>
          <a:ext cx="9067680" cy="5070600"/>
        </p:xfrm>
        <a:graphic>
          <a:graphicData uri="http://schemas.openxmlformats.org/drawingml/2006/table">
            <a:tbl>
              <a:tblPr/>
              <a:tblGrid>
                <a:gridCol w="1566720"/>
                <a:gridCol w="1454040"/>
                <a:gridCol w="1319400"/>
                <a:gridCol w="1798560"/>
                <a:gridCol w="1417680"/>
                <a:gridCol w="151128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r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le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o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a F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zerru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yshaw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m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l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a 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F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 L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r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ngel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sh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" name="Line 47"/>
          <p:cNvSpPr/>
          <p:nvPr/>
        </p:nvSpPr>
        <p:spPr>
          <a:xfrm>
            <a:off x="23760" y="1428840"/>
            <a:ext cx="9034560" cy="1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320" y="762120"/>
            <a:ext cx="87627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by linear comb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762120" y="1371600"/>
                <a:ext cx="21333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346800" y="1393920"/>
                <a:ext cx="23954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WordArt 10"/>
          <p:cNvSpPr txBox="1"/>
          <p:nvPr/>
        </p:nvSpPr>
        <p:spPr>
          <a:xfrm>
            <a:off x="7505640" y="809640"/>
            <a:ext cx="133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4, -7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2971800" y="1371600"/>
            <a:ext cx="133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2, 1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2"/>
              <p:cNvSpPr txBox="1"/>
              <p:nvPr/>
            </p:nvSpPr>
            <p:spPr>
              <a:xfrm>
                <a:off x="685800" y="3429000"/>
                <a:ext cx="254484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WordArt 13"/>
          <p:cNvSpPr txBox="1"/>
          <p:nvPr/>
        </p:nvSpPr>
        <p:spPr>
          <a:xfrm>
            <a:off x="228600" y="4648320"/>
            <a:ext cx="1333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-4, -7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6369120" y="3429000"/>
                <a:ext cx="23940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WordArt 15"/>
          <p:cNvSpPr txBox="1"/>
          <p:nvPr/>
        </p:nvSpPr>
        <p:spPr>
          <a:xfrm>
            <a:off x="6477120" y="4876920"/>
            <a:ext cx="1333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-1, -2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hw p. 405 9-42 by 3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 back &amp; Discuss Quiz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\\MCENOV2\VOL1\Installs\MSOffice\CD2\PFiles\MSOffice\Clipart\standard\stddir3\na01340_.wmf"/>
          <p:cNvPicPr/>
          <p:nvPr/>
        </p:nvPicPr>
        <p:blipFill>
          <a:blip r:embed="rId1"/>
          <a:stretch/>
        </p:blipFill>
        <p:spPr>
          <a:xfrm>
            <a:off x="7086600" y="87480"/>
            <a:ext cx="1963800" cy="143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\\MCENOV2\VOL1\Installs\MSOffice\CD2\PFiles\MSOffice\Clipart\homeanim\j0076208.gif"/>
          <p:cNvPicPr/>
          <p:nvPr/>
        </p:nvPicPr>
        <p:blipFill>
          <a:blip r:embed="rId2"/>
          <a:stretch/>
        </p:blipFill>
        <p:spPr>
          <a:xfrm>
            <a:off x="-54000" y="1600200"/>
            <a:ext cx="119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380880" y="1600200"/>
            <a:ext cx="8382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Elephant"/>
              </a:rPr>
              <a:t>It's time for some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Elephant"/>
              <a:ea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Elephant"/>
              </a:rPr>
              <a:t>trashketball!!!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Elephant"/>
              <a:ea typeface="Elephan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 rot="5400000">
            <a:off x="-2552760" y="293364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w to Pla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23760"/>
            <a:ext cx="83059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in your group needs a piece of paper, a pencil, graph paper, and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in your group needs a letter, either T, R, A, S, or H.  Put that lett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your group number at the top of your paper (both si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 Person will write down the problem and solve it on their paper (you may get help from the members in your grou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the person whose letter I call will come up and show me thei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get one point for a correct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rrect, you can shoot for bonus points.  2 from the two point line or 3 from the three poin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0000"/>
                </a:solidFill>
                <a:latin typeface="Comic Sans MS"/>
              </a:rPr>
              <a:t>ye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993600" y="304920"/>
                <a:ext cx="55375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, 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 solution for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5"/>
          <p:cNvSpPr/>
          <p:nvPr/>
        </p:nvSpPr>
        <p:spPr>
          <a:xfrm>
            <a:off x="77760" y="152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2:09:15Z</dcterms:created>
  <dc:creator>cee13931</dc:creator>
  <dc:description/>
  <dc:language>en-US</dc:language>
  <cp:lastModifiedBy>Owner</cp:lastModifiedBy>
  <dcterms:modified xsi:type="dcterms:W3CDTF">2012-06-05T15:29:26Z</dcterms:modified>
  <cp:revision>7</cp:revision>
  <dc:subject/>
  <dc:title>Warm-up</dc:title>
</cp:coreProperties>
</file>